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8805-AF8E-4D52-829C-A14EA42A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07A1-2F30-4ACE-913D-78516DE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9640-A2A4-4677-B4DB-B85947A8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7353-6525-48A5-A8EA-B3A2A7E8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F078-CD73-40A1-B0D0-5DDC1F88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085D-DF3C-446D-A43B-0D5C2446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4F20-A57E-4535-90F4-436BA4E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7950-618C-4794-8B53-1E7B551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91F-65CB-4503-A91F-47F0713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9CD4-0216-44DA-92E0-E898EEB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8CB-E99D-43C7-99D9-F8AF485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2CFB-1022-4F48-8AC9-8BEDFFF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4E01-BE56-4BA4-BFFB-620424E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DF63-A042-409D-8CB7-2D7107A2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741E-D1AF-4392-B09A-013B026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A591-2FCF-4CB9-AAD8-D1F43F44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9D9-55CB-4861-B4E2-482DCFCF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DF54-FE1D-4676-BF8C-D06AA0C7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3CC5-E0E2-4278-A60A-E92C67F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6C20-D5BB-4B13-ADBD-7FEAE04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C8CE-70C3-4994-9C0F-4D450B6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9FA4-3711-4C3A-A5AA-F654E30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B8C5-B059-43C2-A90F-26D125E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1317-06FE-4089-9F2F-B971961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6EC0-DBA3-4BA3-8CBA-6268D1710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7FB1-A475-425B-9DBE-AC2BA77956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ress2.nci.nih.gov/sciencebehind/nanotech/images/nano0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howbig.htm" TargetMode="External"/><Relationship Id="rId2" Type="http://schemas.openxmlformats.org/officeDocument/2006/relationships/hyperlink" Target="http://www.cellsalive.com/index.htm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02896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troduction to Nanotechnolog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 Vre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have we found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scale result in changes in prope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area versus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characteristics dominate at the nano-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roperties, chemical properties, and color all change at the nano-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 Crysta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1913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rbon Nanotub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er than 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and semi-conductor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conductor of electricity than co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7" descr="schema%20nanotubes"/>
          <p:cNvPicPr/>
          <p:nvPr/>
        </p:nvPicPr>
        <p:blipFill>
          <a:blip r:embed="rId5"/>
          <a:stretch/>
        </p:blipFill>
        <p:spPr>
          <a:xfrm>
            <a:off x="4653000" y="1973160"/>
            <a:ext cx="40338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technolog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 materials – Sun Block, Memory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s – Smoke detectors, Biological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s – LED’s, Photovoltaic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-Im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ber-bo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onsecatim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4" descr="TF-BarbBot1A[1]"/>
          <p:cNvPicPr/>
          <p:nvPr/>
        </p:nvPicPr>
        <p:blipFill>
          <a:blip r:embed="rId1"/>
          <a:stretch/>
        </p:blipFill>
        <p:spPr>
          <a:xfrm>
            <a:off x="2743200" y="15238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no Im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Build-up Rem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onsecatim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arteryHiRes640[1]"/>
          <p:cNvPicPr/>
          <p:nvPr/>
        </p:nvPicPr>
        <p:blipFill>
          <a:blip r:embed="rId1"/>
          <a:stretch/>
        </p:blipFill>
        <p:spPr>
          <a:xfrm>
            <a:off x="2666880" y="15238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earch Experience for Teach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xel University Research Experience for Teac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oe.drexel.edu/RET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7" descr="index21"/>
          <p:cNvPicPr/>
          <p:nvPr/>
        </p:nvPicPr>
        <p:blipFill>
          <a:blip r:embed="rId1"/>
          <a:stretch/>
        </p:blipFill>
        <p:spPr>
          <a:xfrm>
            <a:off x="3962520" y="3124080"/>
            <a:ext cx="15937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orksho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s on Nano-Fabrication Workshop for Educato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cneu.psu.ed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79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6" descr="mri"/>
          <p:cNvPicPr/>
          <p:nvPr/>
        </p:nvPicPr>
        <p:blipFill>
          <a:blip r:embed="rId1"/>
          <a:stretch/>
        </p:blipFill>
        <p:spPr>
          <a:xfrm>
            <a:off x="3048120" y="3200400"/>
            <a:ext cx="2971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orksho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Nanoscale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Univers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ns.cornell.edu/cipt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5" descr="cns-logo-nt"/>
          <p:cNvPicPr/>
          <p:nvPr/>
        </p:nvPicPr>
        <p:blipFill>
          <a:blip r:embed="rId1"/>
          <a:stretch/>
        </p:blipFill>
        <p:spPr>
          <a:xfrm>
            <a:off x="3352680" y="289548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Nanotechnolog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o” means one billionth (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otechnology is the making or modifying of “things” in the nanometer size ran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0 nm – 1 n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9" descr="874_nanotubes"/>
          <p:cNvPicPr/>
          <p:nvPr/>
        </p:nvPicPr>
        <p:blipFill>
          <a:blip r:embed="rId3"/>
          <a:stretch/>
        </p:blipFill>
        <p:spPr>
          <a:xfrm>
            <a:off x="464832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ing Nano DVD - http://talkingnano.ne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otechnology – Ratner and Rat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ing Nanotechnolog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rsec.wisc.edu/edetc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5" descr="Cineplex link"/>
          <p:cNvPicPr/>
          <p:nvPr/>
        </p:nvPicPr>
        <p:blipFill>
          <a:blip r:embed="rId1"/>
          <a:stretch/>
        </p:blipFill>
        <p:spPr>
          <a:xfrm>
            <a:off x="3505320" y="2590920"/>
            <a:ext cx="213336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you att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ny questions, please feel free to email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reeland@umas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ive Siz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press2.nci.nih.gov/sciencebehind/nanotech/images/nano01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5" descr="nano01"/>
          <p:cNvPicPr/>
          <p:nvPr/>
        </p:nvPicPr>
        <p:blipFill>
          <a:blip r:embed="rId3"/>
          <a:stretch/>
        </p:blipFill>
        <p:spPr>
          <a:xfrm>
            <a:off x="685800" y="1828800"/>
            <a:ext cx="7848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ive Siz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ig on Cells A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www.cellsalive.com/howbig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7"/>
          <p:cNvGrpSpPr/>
          <p:nvPr/>
        </p:nvGrpSpPr>
        <p:grpSpPr>
          <a:xfrm>
            <a:off x="3794040" y="-1004760"/>
            <a:ext cx="1555920" cy="8867520"/>
            <a:chOff x="3794040" y="-1004760"/>
            <a:chExt cx="1555920" cy="8867520"/>
          </a:xfrm>
        </p:grpSpPr>
        <p:sp>
          <p:nvSpPr>
            <p:cNvPr id="525" name="Rectangle 4"/>
            <p:cNvSpPr/>
            <p:nvPr/>
          </p:nvSpPr>
          <p:spPr>
            <a:xfrm>
              <a:off x="3794040" y="-1004760"/>
              <a:ext cx="1108080" cy="88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5"/>
            <p:cNvSpPr/>
            <p:nvPr/>
          </p:nvSpPr>
          <p:spPr>
            <a:xfrm>
              <a:off x="3794040" y="-1004760"/>
              <a:ext cx="155592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9999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en-US" sz="4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7" name="Picture 6" descr="title5"/>
          <p:cNvPicPr/>
          <p:nvPr/>
        </p:nvPicPr>
        <p:blipFill>
          <a:blip r:embed="rId3"/>
          <a:stretch/>
        </p:blipFill>
        <p:spPr>
          <a:xfrm>
            <a:off x="3505320" y="3048120"/>
            <a:ext cx="20574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“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i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” is a Nanome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ometer Scaling Activity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ting it down to N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DSC00093-1"/>
          <p:cNvPicPr/>
          <p:nvPr/>
        </p:nvPicPr>
        <p:blipFill>
          <a:blip r:embed="rId1"/>
          <a:stretch/>
        </p:blipFill>
        <p:spPr>
          <a:xfrm>
            <a:off x="2590920" y="32004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wers of 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owersoften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3519360" y="2286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0"/>
          <p:cNvPicPr/>
          <p:nvPr/>
        </p:nvPicPr>
        <p:blipFill>
          <a:blip r:embed="rId2"/>
          <a:stretch/>
        </p:blipFill>
        <p:spPr>
          <a:xfrm>
            <a:off x="2819520" y="16002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re’s plenty of room at the bottom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“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principles of physics, as far as I can see, do not speak against the possibility of maneuvering things atom by at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ard Feyn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032" descr="feynman-standards"/>
          <p:cNvPicPr/>
          <p:nvPr/>
        </p:nvPicPr>
        <p:blipFill>
          <a:blip r:embed="rId2"/>
          <a:stretch/>
        </p:blipFill>
        <p:spPr>
          <a:xfrm>
            <a:off x="4653000" y="2465280"/>
            <a:ext cx="4033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o we know what’s the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Force Micros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guided topographic visualization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 Hill Biologic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fm"/>
          <p:cNvPicPr/>
          <p:nvPr/>
        </p:nvPicPr>
        <p:blipFill>
          <a:blip r:embed="rId1"/>
          <a:stretch/>
        </p:blipFill>
        <p:spPr>
          <a:xfrm>
            <a:off x="2666880" y="3505320"/>
            <a:ext cx="35434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id we get here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rcRect l="52944" t="0" r="0" b="0"/>
          <a:stretch/>
        </p:blipFill>
        <p:spPr>
          <a:xfrm>
            <a:off x="4813200" y="1600200"/>
            <a:ext cx="3873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1:08:05Z</dcterms:created>
  <dc:creator>Pete and Carcy Vreeland</dc:creator>
  <dc:description/>
  <dc:language>en-US</dc:language>
  <cp:lastModifiedBy>Pete Vreeland</cp:lastModifiedBy>
  <dcterms:modified xsi:type="dcterms:W3CDTF">2009-10-05T14:58:56Z</dcterms:modified>
  <cp:revision>14</cp:revision>
  <dc:subject/>
  <dc:title>Introduction to Nanotechnology</dc:title>
</cp:coreProperties>
</file>